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10B2-03DC-4C82-9D9C-31F9D96BB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5A6F-C5A5-4CF0-BB47-0BD2D68F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5BCD-698E-4394-BFC9-AE916B1ED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0591-E0E2-4F12-8E1E-042BB047E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07D7-E68F-4686-820E-3C2C94D92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04A3-79F1-495D-B00B-69F46AE8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0DED-F490-436B-B736-9B3EAB71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5B14-5F96-4DEF-BF43-25213000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3697-46EB-4730-818B-538B8CC9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093E-3A0C-4348-B3BD-F09BF65A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9C44-31CA-4B14-85F8-9673C14E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5E17-266D-4BF3-909B-3DB43589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088F-3986-4932-AA14-8B4F2575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E9CD-5808-47B7-9843-26D4E104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1B4D-D0C3-45B8-9A59-370F4A5A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F21B-131A-46FD-BFA2-15AECFBAE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470E-61C6-4970-81FB-C023101B5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0AAD-1610-4035-8E54-05D0FE14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8B33-64A8-4A0E-AE5D-D612C053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FC74-72C4-4C86-97C5-BB236E52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DD3D-7E1C-406E-8CB1-15F1FC2A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6AF3-64F7-41AE-A733-AD65E5B3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1766-FC72-4406-ACEF-8F8DC425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7AEF-731B-4611-98B2-DFFC0044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E726-0581-4DAF-91E5-6508923499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6E72-45DE-4110-BF85-F969873832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fcf0"/>
                </a:solidFill>
                <a:latin typeface="Bodoni MT"/>
              </a:rPr>
              <a:t>La rutina de ardilla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31520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ntar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133720" y="1371240"/>
            <a:ext cx="5790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ardilla senta en el arb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666880" y="2209680"/>
            <a:ext cx="45720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lamar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81080" y="1447560"/>
            <a:ext cx="56390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ardilla llama es Geo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4762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rvar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ardilla se larv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00400" y="297180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irar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33720" y="3580920"/>
            <a:ext cx="5943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ardilla se mira en espej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971800" y="914400"/>
            <a:ext cx="34671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feitar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ardilla no se afeita pero el uso la crema de afei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657600" y="3124080"/>
            <a:ext cx="200988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narse la rop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81080" y="1523520"/>
            <a:ext cx="51818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ardilla se pone la rop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819520" y="2057400"/>
            <a:ext cx="34718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esayunar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362320" y="1219320"/>
            <a:ext cx="579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ardilla se desayu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380052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costar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90560" y="1371600"/>
            <a:ext cx="4724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ardilla se aco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666880" y="1990800"/>
            <a:ext cx="381024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rmir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ardilla se dormi en arb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819520" y="2666880"/>
            <a:ext cx="45720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eventar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ardillas amigo leventa la ardil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362320" y="2895480"/>
            <a:ext cx="44193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3:48:10Z</dcterms:created>
  <dc:creator>chernoffale</dc:creator>
  <dc:description/>
  <dc:language>en-US</dc:language>
  <cp:lastModifiedBy>chernoffale</cp:lastModifiedBy>
  <dcterms:modified xsi:type="dcterms:W3CDTF">2012-04-05T13:22:34Z</dcterms:modified>
  <cp:revision>5</cp:revision>
  <dc:subject/>
  <dc:title>La rutina de ardilla</dc:title>
</cp:coreProperties>
</file>